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13.gif" ContentType="image/gif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1D44-FE94-41F1-8ECE-335F5FA9E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51C1-72E5-4BFD-A4F7-35825F07F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0747-2CA4-4D5A-B8CD-A63F1949C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0078-A8D6-46F5-89E8-206B77F41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FC75-A137-4B57-8436-7CB659B5D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F6A4-A2ED-4395-91F8-2FE46E211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023D-A513-4BAE-8D61-768003E33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1E59-0C9A-4CF1-8CD7-22204F863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561A-FF5D-446A-9EF1-89704AE5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2C27-F543-41E5-917A-09F14128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6F6C-E436-4AA3-990F-881DED69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4611-D5F3-4581-8CB9-2C9C9D2F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D0EDD-F5BF-4338-B8AA-BC06850FD28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Arial"/>
              </a:rPr>
              <a:t>谜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看不见，摸不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跑得快，又没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去永远不回头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千金万金买不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谁能说说，为什么时间一去永远不回头，千金万金买不到？</a:t>
            </a:r>
            <a:br>
              <a:rPr sz="3200"/>
            </a:b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85720" y="34290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谜底（时间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-1189080" y="-1108080"/>
            <a:ext cx="11592000" cy="900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走进“一休屋”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9540720" cy="49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ff"/>
                </a:solidFill>
                <a:latin typeface="Arial"/>
              </a:rPr>
              <a:t>请你把诗句与意思连起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百川东到海，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什么时候才能再回来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时间也是这样一去不回啊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何时复西归？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条条江河向东奔去，流入大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少壮不努力，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如果年青的时候不努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老大徒伤悲。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到年老时，再伤心后悔也来不及了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40000" y="2781360"/>
            <a:ext cx="1152360" cy="863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411280" y="2781000"/>
            <a:ext cx="1152720" cy="863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11280" y="4076640"/>
            <a:ext cx="1081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387520" y="4508640"/>
            <a:ext cx="1081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5" dur="2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" dur="2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8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-684360" y="-387360"/>
            <a:ext cx="12654000" cy="95029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68360" y="1197000"/>
            <a:ext cx="8136000" cy="44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6000" spc="-1" strike="noStrike">
                <a:solidFill>
                  <a:srgbClr val="009999"/>
                </a:solidFill>
                <a:latin typeface="Arial"/>
                <a:ea typeface="楷体_GB2312"/>
              </a:rPr>
              <a:t>长　歌　行</a:t>
            </a:r>
            <a:r>
              <a:rPr b="1" lang="zh-CN" sz="6000" spc="-1" strike="noStrike">
                <a:solidFill>
                  <a:srgbClr val="cc00ff"/>
                </a:solidFill>
                <a:latin typeface="Arial"/>
                <a:ea typeface="楷体_GB2312"/>
              </a:rPr>
              <a:t>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百　川　东　到　海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何　时　复　西　归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少　壮　不　努　力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老　大　徒　伤　悲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1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1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1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-1044720" y="-387360"/>
            <a:ext cx="12654000" cy="98902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49440" y="404640"/>
            <a:ext cx="6551640" cy="61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cc00ff"/>
                </a:solidFill>
                <a:latin typeface="Arial"/>
                <a:ea typeface="楷体_GB2312"/>
              </a:rPr>
              <a:t>长　歌　行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青    青   园    中   葵，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朝    露   待    日   晞。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阳    春   布    德   泽，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万    物   生    光   辉。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常    恐   秋    节   至，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焜    黄   华    叶   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百　川　东　到　海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何　时　复　西　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少　壮　不　努　力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老　大　徒　伤　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-612720" y="0"/>
            <a:ext cx="12706200" cy="87850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484360" y="1844640"/>
            <a:ext cx="40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5640" y="620640"/>
            <a:ext cx="115236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700360" y="58053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5640" y="549360"/>
            <a:ext cx="115236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161120" y="905040"/>
            <a:ext cx="150840" cy="152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572480" y="692280"/>
            <a:ext cx="2137320" cy="5138640"/>
            <a:chOff x="1572480" y="692280"/>
            <a:chExt cx="2137320" cy="5138640"/>
          </a:xfrm>
        </p:grpSpPr>
        <p:grpSp>
          <p:nvGrpSpPr>
            <p:cNvPr id="89" name=""/>
            <p:cNvGrpSpPr/>
            <p:nvPr/>
          </p:nvGrpSpPr>
          <p:grpSpPr>
            <a:xfrm>
              <a:off x="1572480" y="692280"/>
              <a:ext cx="2136240" cy="5138640"/>
              <a:chOff x="1572480" y="692280"/>
              <a:chExt cx="2136240" cy="5138640"/>
            </a:xfrm>
          </p:grpSpPr>
          <p:sp>
            <p:nvSpPr>
              <p:cNvPr id="90" name=""/>
              <p:cNvSpPr/>
              <p:nvPr/>
            </p:nvSpPr>
            <p:spPr>
              <a:xfrm>
                <a:off x="1572480" y="764640"/>
                <a:ext cx="2009160" cy="506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6000" spc="-1" strike="noStrike">
                    <a:solidFill>
                      <a:srgbClr val="cc00ff"/>
                    </a:solidFill>
                    <a:latin typeface="Arial"/>
                    <a:ea typeface="隶书"/>
                  </a:rPr>
                  <a:t>少壮不努力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484360" y="692280"/>
                <a:ext cx="1224360" cy="46090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2" name="" descr=""/>
            <p:cNvPicPr/>
            <p:nvPr/>
          </p:nvPicPr>
          <p:blipFill>
            <a:blip r:embed="rId3"/>
            <a:stretch/>
          </p:blipFill>
          <p:spPr>
            <a:xfrm>
              <a:off x="2484720" y="4940640"/>
              <a:ext cx="1225080" cy="32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" name=""/>
          <p:cNvGrpSpPr/>
          <p:nvPr/>
        </p:nvGrpSpPr>
        <p:grpSpPr>
          <a:xfrm>
            <a:off x="4164120" y="693720"/>
            <a:ext cx="2208240" cy="4967280"/>
            <a:chOff x="4164120" y="693720"/>
            <a:chExt cx="2208240" cy="4967280"/>
          </a:xfrm>
        </p:grpSpPr>
        <p:grpSp>
          <p:nvGrpSpPr>
            <p:cNvPr id="94" name=""/>
            <p:cNvGrpSpPr/>
            <p:nvPr/>
          </p:nvGrpSpPr>
          <p:grpSpPr>
            <a:xfrm>
              <a:off x="4164120" y="693720"/>
              <a:ext cx="2170800" cy="4967280"/>
              <a:chOff x="4164120" y="693720"/>
              <a:chExt cx="2170800" cy="4967280"/>
            </a:xfrm>
          </p:grpSpPr>
          <p:sp>
            <p:nvSpPr>
              <p:cNvPr id="95" name=""/>
              <p:cNvSpPr/>
              <p:nvPr/>
            </p:nvSpPr>
            <p:spPr>
              <a:xfrm>
                <a:off x="4164120" y="842760"/>
                <a:ext cx="2009160" cy="481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6000" spc="-1" strike="noStrike">
                    <a:solidFill>
                      <a:srgbClr val="cc00ff"/>
                    </a:solidFill>
                    <a:latin typeface="Arial"/>
                    <a:ea typeface="隶书"/>
                  </a:rPr>
                  <a:t>老大徒伤悲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111640" y="693720"/>
                <a:ext cx="1223280" cy="46072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7" name="" descr=""/>
            <p:cNvPicPr/>
            <p:nvPr/>
          </p:nvPicPr>
          <p:blipFill>
            <a:blip r:embed="rId4"/>
            <a:stretch/>
          </p:blipFill>
          <p:spPr>
            <a:xfrm>
              <a:off x="5148360" y="4940640"/>
              <a:ext cx="12240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-684360" y="-171360"/>
            <a:ext cx="12419280" cy="9361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1908000" y="1701720"/>
            <a:ext cx="48247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珍惜时间　　努力学习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mph" presetID="6" repeatCount="2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6" dur="3000" fill="hold"/>
                                        <p:tgtEl>
                                          <p:spTgt spid="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900000" y="602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11280" y="11592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北师大版一年级语文下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692360" y="2708280"/>
            <a:ext cx="403200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宋体"/>
              </a:rPr>
              <a:t>长歌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21574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-684360" y="-387360"/>
            <a:ext cx="12654000" cy="9502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9640" y="836640"/>
            <a:ext cx="8136000" cy="44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6000" spc="-1" strike="noStrike">
                <a:solidFill>
                  <a:srgbClr val="009999"/>
                </a:solidFill>
                <a:latin typeface="Arial"/>
                <a:ea typeface="楷体_GB2312"/>
              </a:rPr>
              <a:t>长　歌　行</a:t>
            </a:r>
            <a:r>
              <a:rPr b="1" lang="zh-CN" sz="6000" spc="-1" strike="noStrike">
                <a:solidFill>
                  <a:srgbClr val="cc00ff"/>
                </a:solidFill>
                <a:latin typeface="Arial"/>
                <a:ea typeface="楷体_GB2312"/>
              </a:rPr>
              <a:t>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百　</a:t>
            </a:r>
            <a:r>
              <a:rPr b="0" lang="zh-CN" sz="4800" spc="-1" strike="noStrike">
                <a:solidFill>
                  <a:srgbClr val="cc00ff"/>
                </a:solidFill>
                <a:latin typeface="Arial"/>
                <a:ea typeface="楷体_GB2312"/>
              </a:rPr>
              <a:t>川</a:t>
            </a: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　东　</a:t>
            </a:r>
            <a:r>
              <a:rPr b="0" lang="zh-CN" sz="4800" spc="-1" strike="noStrike">
                <a:solidFill>
                  <a:srgbClr val="cc00ff"/>
                </a:solidFill>
                <a:latin typeface="Arial"/>
                <a:ea typeface="楷体_GB2312"/>
              </a:rPr>
              <a:t>到　海</a:t>
            </a: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ff"/>
                </a:solidFill>
                <a:latin typeface="Arial"/>
                <a:ea typeface="楷体_GB2312"/>
              </a:rPr>
              <a:t>何</a:t>
            </a: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　时　</a:t>
            </a:r>
            <a:r>
              <a:rPr b="0" lang="zh-CN" sz="4800" spc="-1" strike="noStrike">
                <a:solidFill>
                  <a:srgbClr val="cc00ff"/>
                </a:solidFill>
                <a:latin typeface="Arial"/>
                <a:ea typeface="楷体_GB2312"/>
              </a:rPr>
              <a:t>复</a:t>
            </a: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　西　</a:t>
            </a:r>
            <a:r>
              <a:rPr b="0" lang="zh-CN" sz="4800" spc="-1" strike="noStrike">
                <a:solidFill>
                  <a:srgbClr val="cc00ff"/>
                </a:solidFill>
                <a:latin typeface="Arial"/>
                <a:ea typeface="楷体_GB2312"/>
              </a:rPr>
              <a:t>归</a:t>
            </a: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少　</a:t>
            </a:r>
            <a:r>
              <a:rPr b="0" lang="zh-CN" sz="4800" spc="-1" strike="noStrike">
                <a:solidFill>
                  <a:srgbClr val="cc00ff"/>
                </a:solidFill>
                <a:latin typeface="Arial"/>
                <a:ea typeface="楷体_GB2312"/>
              </a:rPr>
              <a:t>壮　</a:t>
            </a: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不　</a:t>
            </a:r>
            <a:r>
              <a:rPr b="0" lang="zh-CN" sz="4800" spc="-1" strike="noStrike">
                <a:solidFill>
                  <a:srgbClr val="cc00ff"/>
                </a:solidFill>
                <a:latin typeface="Arial"/>
                <a:ea typeface="楷体_GB2312"/>
              </a:rPr>
              <a:t>努　力</a:t>
            </a: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老　大　徒　</a:t>
            </a:r>
            <a:r>
              <a:rPr b="0" lang="zh-CN" sz="4800" spc="-1" strike="noStrike">
                <a:solidFill>
                  <a:srgbClr val="cc00ff"/>
                </a:solidFill>
                <a:latin typeface="Arial"/>
                <a:ea typeface="楷体_GB2312"/>
              </a:rPr>
              <a:t>伤　悲</a:t>
            </a: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-1189080" y="-963720"/>
            <a:ext cx="11626920" cy="8640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436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omb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-1260360" y="-1035000"/>
            <a:ext cx="11593440" cy="88567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-1044720" y="-1035000"/>
            <a:ext cx="11017440" cy="88567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-684360" y="-387360"/>
            <a:ext cx="12654000" cy="9502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68360" y="1197000"/>
            <a:ext cx="8136000" cy="44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6000" spc="-1" strike="noStrike">
                <a:solidFill>
                  <a:srgbClr val="009999"/>
                </a:solidFill>
                <a:latin typeface="Arial"/>
                <a:ea typeface="楷体_GB2312"/>
              </a:rPr>
              <a:t>长　歌　行</a:t>
            </a:r>
            <a:r>
              <a:rPr b="1" lang="zh-CN" sz="6000" spc="-1" strike="noStrike">
                <a:solidFill>
                  <a:srgbClr val="cc00ff"/>
                </a:solidFill>
                <a:latin typeface="Arial"/>
                <a:ea typeface="楷体_GB2312"/>
              </a:rPr>
              <a:t>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百　川　东　到　海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何　时　复　西　归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少　壮　不　努　力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老　大　徒　伤　悲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766764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318462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-468360" y="0"/>
            <a:ext cx="11768040" cy="8901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rot="21540000">
            <a:off x="522360" y="1166760"/>
            <a:ext cx="174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复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8160" y="3699000"/>
            <a:ext cx="5715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21540000">
            <a:off x="2340000" y="1197000"/>
            <a:ext cx="174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归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1540000">
            <a:off x="4284720" y="1197000"/>
            <a:ext cx="174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壮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21540000">
            <a:off x="449280" y="2276640"/>
            <a:ext cx="174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悲伤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1540000">
            <a:off x="2340000" y="2349360"/>
            <a:ext cx="174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四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21540000">
            <a:off x="4356000" y="2349360"/>
            <a:ext cx="174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何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21540000">
            <a:off x="468360" y="3716280"/>
            <a:ext cx="174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努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21540000">
            <a:off x="2411280" y="3716280"/>
            <a:ext cx="174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到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21540000">
            <a:off x="4427640" y="3789360"/>
            <a:ext cx="174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大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3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3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3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朋友们，我们又见面了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6983280" cy="34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长歌行   百</a:t>
            </a:r>
            <a:r>
              <a:rPr b="1" lang="zh-CN" sz="4000" spc="-1" strike="noStrike">
                <a:solidFill>
                  <a:srgbClr val="cc00ff"/>
                </a:solidFill>
                <a:latin typeface="Arial"/>
              </a:rPr>
              <a:t>川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cc00ff"/>
                </a:solidFill>
                <a:latin typeface="Arial"/>
              </a:rPr>
              <a:t>何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Arial"/>
              </a:rPr>
              <a:t>复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西</a:t>
            </a:r>
            <a:r>
              <a:rPr b="1" lang="zh-CN" sz="4000" spc="-1" strike="noStrike">
                <a:solidFill>
                  <a:srgbClr val="cc00ff"/>
                </a:solidFill>
                <a:latin typeface="Arial"/>
              </a:rPr>
              <a:t>归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   少</a:t>
            </a:r>
            <a:r>
              <a:rPr b="1" lang="zh-CN" sz="4000" spc="-1" strike="noStrike">
                <a:solidFill>
                  <a:srgbClr val="cc00ff"/>
                </a:solidFill>
                <a:latin typeface="Arial"/>
              </a:rPr>
              <a:t>壮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cc00ff"/>
                </a:solidFill>
                <a:latin typeface="Arial"/>
              </a:rPr>
              <a:t>努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力    </a:t>
            </a:r>
            <a:r>
              <a:rPr b="1" lang="zh-CN" sz="4000" spc="-1" strike="noStrike">
                <a:solidFill>
                  <a:srgbClr val="cc00ff"/>
                </a:solidFill>
                <a:latin typeface="Arial"/>
              </a:rPr>
              <a:t>伤悲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cp:keywords/>
  <dc:language>en-US</dc:language>
  <cp:lastModifiedBy>User</cp:lastModifiedBy>
  <cp:lastPrinted>1899-12-30T00:00:00Z</cp:lastPrinted>
  <dcterms:modified xsi:type="dcterms:W3CDTF">2012-05-02T04:00:02Z</dcterms:modified>
  <cp:revision>21</cp:revision>
  <dc:subject/>
  <dc:title>幻灯片 1</dc:title>
</cp:coreProperties>
</file>